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1A8B-9C9B-4637-B460-DA42AF1833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72E-7001-4CC9-BB90-DD608D19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3B3-F1D0-45C7-AB01-E2FC59B5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00B-DC52-4DD3-88F4-47247BA3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8A1-D62C-430E-A2A3-AF261FD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861-6ACF-48DC-8C61-C5FD56D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759-BD69-43EA-A2DB-77EE723D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7A6-D109-480C-8731-7A45A8F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FBE-0BDD-4ECF-8320-99C3DAFB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EE6-674A-42B8-A814-EB6D9B96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99D-FAF7-4820-8B06-2744E99E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AC6-0884-4CAB-9024-7F8004B9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774-760A-4473-89B8-5FB1C21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65F1-96EE-446B-B810-6A09F634F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:\flag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71600" y="1828800"/>
            <a:ext cx="6553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What is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BD06916_"/>
          <p:cNvPicPr/>
          <p:nvPr/>
        </p:nvPicPr>
        <p:blipFill>
          <a:blip r:embed="rId1"/>
          <a:stretch/>
        </p:blipFill>
        <p:spPr>
          <a:xfrm>
            <a:off x="2743200" y="2309760"/>
            <a:ext cx="380988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838080" y="2057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Legisl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Execu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58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Jud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:\flag nation.bmp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1066680" y="1143000"/>
            <a:ext cx="6943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bway"/>
              </a:rPr>
              <a:t>The National Government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bway"/>
              <a:ea typeface="Subway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Legisla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Make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House of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Se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A:\congress.bmp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uts the laws into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Vice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A:\president.bmp"/>
          <p:cNvPicPr/>
          <p:nvPr/>
        </p:nvPicPr>
        <p:blipFill>
          <a:blip r:embed="rId1"/>
          <a:stretch/>
        </p:blipFill>
        <p:spPr>
          <a:xfrm>
            <a:off x="5105520" y="3048120"/>
            <a:ext cx="2495520" cy="3151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Decides the meaning of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Supreme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1 Chief Jus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8 Associate Jus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A:\SC.bmp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519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0:36:25Z</dcterms:created>
  <dc:creator>Philip Williams</dc:creator>
  <dc:description/>
  <dc:language>en-US</dc:language>
  <cp:lastModifiedBy>Legion</cp:lastModifiedBy>
  <dcterms:modified xsi:type="dcterms:W3CDTF">2017-07-06T06:52:57Z</dcterms:modified>
  <cp:revision>7</cp:revision>
  <dc:subject/>
  <dc:title>What is Government?</dc:title>
</cp:coreProperties>
</file>